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D6CC1-FD15-4E5E-BAA9-053D229A0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063FB-B61B-4221-837C-AC2D1CF40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34B93-73D1-49FC-8D97-35FF2B0AF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96393-A737-4ACF-8A42-E9876F505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91388-4624-4EE9-A68A-D87EA9821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82142-1003-4C57-9CC8-FB6874C32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79BC2-555D-4093-8470-5262AEF9D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89B3C-3C67-4648-93BA-046C107887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37074-C8EE-48B6-A7FF-CCBF90FA3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5FFBE-F606-470D-A3BA-E43E19C8BE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36E4A-5E2D-4A38-820B-3D7132FD3F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AACA4-BC18-45A9-90AD-1BD9DA633E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60392-694C-4BF1-981A-72CA593539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23BF5-C436-45AD-8BB3-F5108B87F4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93B41-277F-457E-A6D3-15692D358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AE324-A451-4A30-9BC9-CC7F979BC6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7F3BB-8D54-4145-96CF-8E64823A2C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A66DD-17A7-451D-B8D0-A801490FB5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EAC88-9395-4E44-A787-A28FF0A2CE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0C214-CA14-47B2-B100-50565B135D5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03280" y="345960"/>
            <a:ext cx="8869320" cy="51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nowledge representation</a:t>
            </a:r>
            <a:br>
              <a:rPr sz="4800"/>
            </a:br>
            <a:br>
              <a:rPr sz="4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cture 2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in simple data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lations between databases and lo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3280" y="4572000"/>
            <a:ext cx="90979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. Tammet, T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Relational db table and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3280" y="1768320"/>
            <a:ext cx="9069480" cy="55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 t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d     name   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1      john     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      pete       -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Log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(1,john,1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(2,pete,-2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el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.name, client.bal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from client  where  balance&lt;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(I,N,B) &amp; B&lt;0 -&gt; answer(N,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? answer(X,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3280" y="1768320"/>
            <a:ext cx="9069480" cy="56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Client table:                                     Cars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d     name    balance             id    model  ow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1      john      100                   1      ford     1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2      pete       -200                 2      opel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3      saab    2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elect client.name,cars.model from client, cars where client.id=cars.own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(I,N,B)   &amp; model(J,M,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-&gt;  ans(N,M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Representing complex structures in relational 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3280" y="1768320"/>
            <a:ext cx="9069480" cy="9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+(*(1,2.5),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e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d   op  a1   t1    a2  t2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1    *     2    D      1 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    +    1     T      3  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Data:     varchar  typ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1     “2.5”    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     “1”       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3      “3”       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Special relational db gadge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ull:   null values in two different locations are never equal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(1,jaan,null)  and car(1,opel,null) then null in client is not equal to null in 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xists X. client(1,jaan,X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xists X. car(1,opel,X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gadg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3280" y="1768320"/>
            <a:ext cx="9069480" cy="10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d   name 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1     jan   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2     pete   -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 TABLE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li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PRIMARY KEY (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lient.name(1)=j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lient.name(2)=p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lient.balance(1)=1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ultiple r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payments: no primary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  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1     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1     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      5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payments(1,100)  …. payments(1,100)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Open versus closed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3280" y="1768320"/>
            <a:ext cx="9069480" cy="61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assical logic is op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  <a:ea typeface="DejaVu Sans"/>
              </a:rPr>
              <a:t>We know N facts. We do NOT say that only these N facts hold: maybe there are M more facts which are true but which we do not k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n databases we normally assume that world is closed (minus errors): all we clients are in our database. All their payments are in our database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e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of 1st order predicate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of data in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s as predicates: straightforward en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ies and joins as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objects and features: multiple rows, n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ding structures in db-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 keys as a way to encod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 calculus example 1: pro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3280" y="1768320"/>
            <a:ext cx="9070920" cy="55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680" bIns="0" anchor="t">
            <a:noAutofit/>
          </a:bodyPr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jan,pe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jan,mart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martin,mat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frank,mar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ther(mary,mik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randfather(X,Z) :- father(X,Y), father(Y,Z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randfather(X,Z) :- father(X,Y), mother(Y,Z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Queri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 father(martin,mik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 father(jan,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 grandfather(X,mik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 calculus 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ther(jim,pe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all X,Y (bother(X,Y) =&gt; brother(Y,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all X,Y (brother(X,Y) =&gt; man(X)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y: man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: man(jim), man(pe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 calculus with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3280" y="1768320"/>
            <a:ext cx="90709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680" bIns="0" anchor="t">
            <a:noAutofit/>
          </a:bodyPr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pete)=j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martin)=ja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matt)=mart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mary)=fra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ther(mike)=m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randfather(X,Z) &lt;- father(Y)=X &amp; father(Z)=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lternative: grandfather(father(father(X)),X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randfather(X,Z) &lt;- father(Y)=X &amp; mother(Z)=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lternative: grandfather(father(mother(X)),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in logic have no mea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3280" y="1768320"/>
            <a:ext cx="90709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680" bIns="0" anchor="t">
            <a:noAutofit/>
          </a:bodyPr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o(p1)=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o(m1)=j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o(m2)=m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o(m3)=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ar(m4)=m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rm(X,Z) &lt;- foo(Y)=X &amp; foo(Z)=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lternative: grm(foo(foo(X)),X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rm(X,Z) &lt;- foo(Y)=X &amp; bar(Z)=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lternative: grm(foo(bar(X)),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eaning of wor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elations give meaning to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What about = ??  father(john)=pete then just replac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hree basic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  <a:ea typeface="DejaVu Sans"/>
              </a:rPr>
              <a:t>e(X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  <a:ea typeface="DejaVu Sans"/>
              </a:rPr>
              <a:t>e(X,Y) -&gt; e(Y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  <a:ea typeface="DejaVu Sans"/>
              </a:rPr>
              <a:t>e(X,Y) &amp; e(Y,Z) -&gt; e(X,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xamples: parallel lines, &gt;=, re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eaning of wor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ubstitution rules of equa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  <a:ea typeface="DejaVu Sans"/>
              </a:rPr>
              <a:t>e(X,Y)  &amp; father(X,Z)  -&gt;  father(Y,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  <a:ea typeface="DejaVu Sans"/>
              </a:rPr>
              <a:t>e(X,Y)  &amp; father(Z,X)  -&gt;  father(Z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  <a:ea typeface="DejaVu Sans"/>
              </a:rPr>
              <a:t>e(X,Y)  &amp; e(father(X),Z) -&gt; e(father(Y),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  <a:ea typeface="DejaVu Sans"/>
              </a:rPr>
              <a:t>Etc for all predicates and functions we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Built-in procedures for relations and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Arithmetics + * etc: procedural attachments (procedural data repres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tring, list, date, file etc etc proc attach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6:45:51Z</dcterms:created>
  <dc:creator>Tanel Tammet</dc:creator>
  <dc:description/>
  <dc:language>en-US</dc:language>
  <cp:lastModifiedBy>Department of Informatics</cp:lastModifiedBy>
  <dcterms:modified xsi:type="dcterms:W3CDTF">2011-02-07T11:44:31Z</dcterms:modified>
  <cp:revision>18</cp:revision>
  <dc:subject/>
  <dc:title>Knowledge representation  lecture 2   Plain simple data:  relations between databases and logic</dc:title>
</cp:coreProperties>
</file>